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A25-FD72-4C47-8AF5-51C031AF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459-6FAC-4BC7-840B-7ADEE0C3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031-FD54-48D2-BC19-82EAAEDB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0225-E744-466A-A2CF-7654F1B1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1767-9775-46D5-A895-3F09E3D5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CD84-DEFB-4138-98BF-7CBAA23D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A16A-27B7-4211-9E95-7FA51B06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5F43-8DCA-4D80-A6BC-63AA0C55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293D-F15D-4F4E-870C-CD6876BD2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423C-AB8E-4B49-AE19-FD3657F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3E01-21EC-44D3-BE1F-2347D776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3DC-90BE-4B86-B9B3-56321D0A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061D-AB3E-4862-B43A-42A86655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0B78-01C7-426B-BB09-DBF49839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AE17-9ACF-41B9-B672-D801CF5D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61B2-C1A6-4E2C-A616-FD262B67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97D2-3F7D-4197-A750-0BD75E36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F30-ED5C-4AA5-B57A-FB01A05E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81C-E0FA-4C5C-B38C-F522D5DD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B39-5F6E-4C1A-AFDB-B8F97E5C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0736-6AA1-4325-A5C1-786CBF00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375-37A5-4F9E-8992-76A8C872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63B-E482-4499-A698-2E4AEE7C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8F8D-3AFC-4A49-9221-07D97F1B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AB44-59AA-427D-B380-9EDFC44676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BFAA-744D-498B-8357-8B2134920D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38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«Влияние компьютера на здоровье человека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Ученицы 9-б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Лобовой Виктор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уководитель: Болобан С.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cc"/>
                </a:solidFill>
                <a:latin typeface="Tahoma"/>
              </a:rPr>
              <a:t>Длительное занятие на компьютере, увлечение компьютерными играми способствует формированию агрессии и враждебности у подростк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ровести теоретический анализ научной литературы по данной тем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Исследовать уровень враждебности и агрессии у учащихся, имеющих компьюте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Разработать и осуществить программу профилактики компьютерной зависимости и провести анализ ее эффективност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редные факто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Сидячее положение в течение длительного времен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Воздействие электромагнитного излучения монитор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Утомление глаз, нагрузка на зр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ерегрузка суставов кист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Стресс при потере информац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Влияние компьютера на психику челове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олевые компьютерные иг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Игры с видом «из глаз» «своего» компьютерного геро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Игры с видом извне на «своего» компьютерного геро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уководительские иг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еролевые компьютерные игр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Аркады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Головоломк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Игры на быстроту реакции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Традиционно азартные игры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ели данной программ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Подготовить сознание подростков к противодействию негативным воздействиям компьютерных иг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2. Помочь осознать детям их образовательные потребности, способы их удовлетворения с помощью компьютер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3. Проведение анкетирования учащихся 7-9 классов на тему «Компьютер в моей жизни», диагностика враждебности (методика Кука- Медлен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ahoma"/>
              </a:rPr>
              <a:t>Компьютер может стать другом или заклятым врагом, может помочь в беде, а может добавить кучу проблем, может помочь найти единомышленника, а может привести к одиночеству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7:56:45Z</dcterms:created>
  <dc:creator>USER</dc:creator>
  <dc:description/>
  <dc:language>en-US</dc:language>
  <cp:lastModifiedBy>СВЕТЛАНА  ФЁДОРОВНА</cp:lastModifiedBy>
  <dcterms:modified xsi:type="dcterms:W3CDTF">2009-01-21T08:59:58Z</dcterms:modified>
  <cp:revision>14</cp:revision>
  <dc:subject/>
  <dc:title>Работа по психологии «Влияние компьютера на психику человека»</dc:title>
</cp:coreProperties>
</file>